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.gif" ContentType="image/gif"/>
  <Override PartName="/ppt/media/image16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78E-4A86-4ADF-8373-17A43578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F06-941A-45AF-83DF-F5EE4284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21A-EE0F-4ED4-B3AB-7DDD9D71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476-51F1-498E-A991-8B52B008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AF67-FA20-4AB8-B60D-E2358350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C2E7-6152-4D53-90D4-0A42CD5F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4685-AD1C-4EC9-93B2-72167C78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725D-3F56-40FA-8E9E-C6EB8BE1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BCC9-1FED-46B2-B823-D9057EF9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9189-5587-4FBB-9B6C-679CE6F4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1C0B-9D27-4C62-969A-12961961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255-9DD7-4161-8FD5-E1620E40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14D8-F5B8-40DB-9B40-5F7BBFEA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95A2-66A3-4040-86EE-E623296C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0257-7A2C-4652-967E-C36FF5A1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63EB-9AAB-451B-A404-766BB56E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61EF-FA08-4315-B3A6-6FF5543F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FAE-6706-4E2A-AE69-6E39F631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A2C-42D1-4F5A-BC29-ED7D7174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B98-F081-493D-B45C-11C8B94B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373-1866-451B-998B-32235E51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75A-03F4-431A-8B9F-BE4F927E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6FA-63C1-4EBF-A9E2-89B989CD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176-9E83-4D2D-8F03-1BFF9C3C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CE13-0EB9-4ADB-8302-6694DFF19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8135-72BB-48DE-A1DB-3C5D504B2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image" Target="../media/image1.gi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" Target="slide5.xml"/><Relationship Id="rId8" Type="http://schemas.openxmlformats.org/officeDocument/2006/relationships/slide" Target="slide4.xml"/><Relationship Id="rId9" Type="http://schemas.openxmlformats.org/officeDocument/2006/relationships/image" Target="../media/image5.jpeg"/><Relationship Id="rId10" Type="http://schemas.openxmlformats.org/officeDocument/2006/relationships/slide" Target="slide6.xml"/><Relationship Id="rId11" Type="http://schemas.openxmlformats.org/officeDocument/2006/relationships/slide" Target="slide8.xml"/><Relationship Id="rId12" Type="http://schemas.openxmlformats.org/officeDocument/2006/relationships/slide" Target="slide7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ainforest-alliance.org/resources/forest-facts/species-profiles/spider.html" TargetMode="External"/><Relationship Id="rId2" Type="http://schemas.openxmlformats.org/officeDocument/2006/relationships/hyperlink" Target="http://www.rainforest-alliance.org/resources/forest-facts/species-profiles/squirrelmonkey.html" TargetMode="External"/><Relationship Id="rId3" Type="http://schemas.openxmlformats.org/officeDocument/2006/relationships/hyperlink" Target="http://www.rainforest-alliance.org/resources/forest-facts/species-profiles/morpho_butterfly.html" TargetMode="External"/><Relationship Id="rId4" Type="http://schemas.openxmlformats.org/officeDocument/2006/relationships/hyperlink" Target="http://www.rainforest-alliance.org/resources/forest-facts/species-profiles/scarlet-macaw.html" TargetMode="External"/><Relationship Id="rId5" Type="http://schemas.openxmlformats.org/officeDocument/2006/relationships/hyperlink" Target="http://www.rainforest-alliance.org/resources/forest-facts/species-profiles/ruby-throated_hummingbird.html" TargetMode="External"/><Relationship Id="rId6" Type="http://schemas.openxmlformats.org/officeDocument/2006/relationships/hyperlink" Target="http://www.rainforest-alliance.org/resources/forest-facts/species-profiles/howler-monkey.html" TargetMode="External"/><Relationship Id="rId7" Type="http://schemas.openxmlformats.org/officeDocument/2006/relationships/hyperlink" Target="http://www.rainforest-alliance.org/resources/forest-facts/species-profiles/quetzal.html" TargetMode="External"/><Relationship Id="rId8" Type="http://schemas.openxmlformats.org/officeDocument/2006/relationships/hyperlink" Target="http://www.rainforest-alliance.org/resources/forest-facts/species-profiles/jaguar.html" TargetMode="External"/><Relationship Id="rId9" Type="http://schemas.openxmlformats.org/officeDocument/2006/relationships/hyperlink" Target="http://www.rainforest-alliance.org/resources/forest-facts/species-profiles/toucan.html" TargetMode="External"/><Relationship Id="rId10" Type="http://schemas.openxmlformats.org/officeDocument/2006/relationships/hyperlink" Target="http://www.rainforest-alliance.org/resources/forest-facts/species-profiles/sloths.html" TargetMode="External"/><Relationship Id="rId11" Type="http://schemas.openxmlformats.org/officeDocument/2006/relationships/hyperlink" Target="http://www.rainforest-alliance.org/resources/forest-facts/species-profiles/poison-dart-frogs.html" TargetMode="External"/><Relationship Id="rId12" Type="http://schemas.openxmlformats.org/officeDocument/2006/relationships/hyperlink" Target="http://www.rainforest-alliance.org/resources/forest-facts/species-profiles/anteater.html" TargetMode="External"/><Relationship Id="rId13" Type="http://schemas.openxmlformats.org/officeDocument/2006/relationships/hyperlink" Target="http://www.rainforest-alliance.org/resources/forest-facts/species-profiles/red-eyed-tree-frog.html" TargetMode="External"/><Relationship Id="rId14" Type="http://schemas.openxmlformats.org/officeDocument/2006/relationships/slide" Target="slide4.xml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helperclipart.com/clipart/RainForest_dot2dots_easy.pdf" TargetMode="External"/><Relationship Id="rId2" Type="http://schemas.openxmlformats.org/officeDocument/2006/relationships/hyperlink" Target="http://www.nationalgeographic.com/earthpulse/rainforest/index_flash-feature.ht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Rainforest Animal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8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erlin Sans FB Demi"/>
                <a:hlinkClick r:id="rId1" action="ppaction://hlinksldjump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80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erlin Sans FB Demi"/>
                <a:hlinkClick r:id="rId2" action="ppaction://hlinksldjump"/>
              </a:rPr>
              <a:t>T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915240" y="2819520"/>
            <a:ext cx="2228760" cy="1517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7200" y="2971800"/>
            <a:ext cx="1251000" cy="1981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200400" y="2819520"/>
            <a:ext cx="2022480" cy="1787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715000" y="4191120"/>
            <a:ext cx="1442880" cy="228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181480" y="38088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erlin Sans FB Demi"/>
                <a:hlinkClick r:id="rId7" action="ppaction://hlinksldjump"/>
              </a:rPr>
              <a:t>Anim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808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erlin Sans FB Demi"/>
                <a:hlinkClick r:id="rId8" action="ppaction://hlinksldjump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2209680" y="4800600"/>
            <a:ext cx="1111320" cy="1676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0" y="3808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erlin Sans FB Demi"/>
                <a:hlinkClick r:id="rId10" action="ppaction://hlinksldjump"/>
              </a:rPr>
              <a:t>Gr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5335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53352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335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5335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91440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erlin Sans FB Demi"/>
                <a:hlinkClick r:id="rId11" action="ppaction://hlinksldjump"/>
              </a:rPr>
              <a:t>The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1880" y="609480"/>
            <a:ext cx="381240" cy="685800"/>
          </a:xfrm>
          <a:custGeom>
            <a:avLst/>
            <a:gdLst>
              <a:gd name="textAreaLeft" fmla="*/ 51120 w 381240"/>
              <a:gd name="textAreaRight" fmla="*/ 330120 w 3812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9144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erlin Sans FB Demi"/>
                <a:hlinkClick r:id="rId12" action="ppaction://hlinksldjump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400800" y="106668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3"/>
          <a:stretch/>
        </p:blipFill>
        <p:spPr>
          <a:xfrm>
            <a:off x="914400" y="10666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14600" y="228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28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228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228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228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1295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1371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rod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nforests are 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e, warm, and w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s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homes for many plants and anim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lant and animal has its own special job to do in the life of the rain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981160" cy="282564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696080" y="571500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95680" y="533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as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Jo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 about Rainforest Animals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look like, where they live, and what they 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e a Kidspiration web on an animal that you pi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 at least 3 sentences describing your animal.  Print out your work and draw a picture of your ani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2006640" cy="1406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438280" y="6094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7696080" y="5715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c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ngs to 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Learn about the animals that live in the </a:t>
            </a: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ainfore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licking on them and re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Print out the Kidspiration Web  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’t forget your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Pick your favorite </a:t>
            </a: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Rainforest Ani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fill out your web about your a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Use your web to complete your descriptive writing by typing at least 3 sentences about your animal – Print it out and at the bottom of the page draw your animal in the Rain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352680" y="685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562720" y="2286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838080" y="2819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838080" y="358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838080" y="42670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696080" y="57913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0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8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800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90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Read about the Rainforest Anim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Spider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Squirrel Mon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Morpho Butterfly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Mac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Hummingbird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Howler Mon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Quetza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Jagu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Touca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Three-Toed Sl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Poison Dart Fro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nte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Red Eyed Tree Fr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14" action="ppaction://hlinksldjump"/>
          </p:cNvPr>
          <p:cNvSpPr/>
          <p:nvPr/>
        </p:nvSpPr>
        <p:spPr>
          <a:xfrm>
            <a:off x="8001000" y="5791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77320" y="5486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5"/>
          <a:stretch/>
        </p:blipFill>
        <p:spPr>
          <a:xfrm>
            <a:off x="6629400" y="1066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6"/>
          <a:stretch/>
        </p:blipFill>
        <p:spPr>
          <a:xfrm>
            <a:off x="60948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7"/>
          <a:stretch/>
        </p:blipFill>
        <p:spPr>
          <a:xfrm>
            <a:off x="60948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8"/>
          <a:stretch/>
        </p:blipFill>
        <p:spPr>
          <a:xfrm>
            <a:off x="6094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9"/>
          <a:stretch/>
        </p:blipFill>
        <p:spPr>
          <a:xfrm>
            <a:off x="60948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0"/>
          <a:stretch/>
        </p:blipFill>
        <p:spPr>
          <a:xfrm>
            <a:off x="60948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1"/>
          <a:stretch/>
        </p:blipFill>
        <p:spPr>
          <a:xfrm>
            <a:off x="609480" y="4952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2"/>
          <a:stretch/>
        </p:blipFill>
        <p:spPr>
          <a:xfrm>
            <a:off x="60948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3"/>
          <a:stretch/>
        </p:blipFill>
        <p:spPr>
          <a:xfrm>
            <a:off x="502920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4"/>
          <a:stretch/>
        </p:blipFill>
        <p:spPr>
          <a:xfrm>
            <a:off x="60199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5"/>
          <a:stretch/>
        </p:blipFill>
        <p:spPr>
          <a:xfrm>
            <a:off x="502920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6"/>
          <a:stretch/>
        </p:blipFill>
        <p:spPr>
          <a:xfrm>
            <a:off x="594360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7"/>
          <a:stretch/>
        </p:blipFill>
        <p:spPr>
          <a:xfrm>
            <a:off x="51055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8"/>
          <a:stretch/>
        </p:blipFill>
        <p:spPr>
          <a:xfrm>
            <a:off x="6019920" y="4952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400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3000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30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?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?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ick me to learn how to get an I!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rint me out and start checking your work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10_orangutan"/>
          <p:cNvPicPr/>
          <p:nvPr/>
        </p:nvPicPr>
        <p:blipFill>
          <a:blip r:embed="rId2"/>
          <a:stretch/>
        </p:blipFill>
        <p:spPr>
          <a:xfrm>
            <a:off x="380880" y="228600"/>
            <a:ext cx="1447920" cy="130320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7696080" y="57150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8000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Job!!!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You are now a Rainforest Animal Expert!  Now you can present the information you have learned about your animal to the clas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527120" cy="14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Animals of the Rainforest"/>
          <p:cNvPicPr/>
          <p:nvPr/>
        </p:nvPicPr>
        <p:blipFill>
          <a:blip r:embed="rId3"/>
          <a:stretch/>
        </p:blipFill>
        <p:spPr>
          <a:xfrm>
            <a:off x="762120" y="1828800"/>
            <a:ext cx="319860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7696080" y="5638680"/>
            <a:ext cx="1067040" cy="838440"/>
          </a:xfrm>
          <a:custGeom>
            <a:avLst/>
            <a:gdLst>
              <a:gd name="textAreaLeft" fmla="*/ 54360 w 1067040"/>
              <a:gd name="textAreaRight" fmla="*/ 1012680 w 10670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6087" y="1400"/>
                </a:lnTo>
                <a:lnTo>
                  <a:pt x="1400" y="1400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6087" y="20200"/>
                </a:lnTo>
                <a:lnTo>
                  <a:pt x="26087" y="1400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7" y="20200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7" h="21600">
                <a:moveTo>
                  <a:pt x="6737" y="3794"/>
                </a:moveTo>
                <a:lnTo>
                  <a:pt x="20750" y="10800"/>
                </a:lnTo>
                <a:lnTo>
                  <a:pt x="67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20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re you finished??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k a Rainforest game to 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int o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lay on the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Coloring page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Rainforest at N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781680" y="609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629400" y="4572000"/>
            <a:ext cx="1981080" cy="1789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380880" y="4267080"/>
            <a:ext cx="2590920" cy="235296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3962520" y="5562720"/>
            <a:ext cx="1523880" cy="106668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55" h="21600">
                <a:moveTo>
                  <a:pt x="15428" y="3837"/>
                </a:moveTo>
                <a:lnTo>
                  <a:pt x="18004" y="6448"/>
                </a:lnTo>
                <a:lnTo>
                  <a:pt x="18004" y="4707"/>
                </a:lnTo>
                <a:lnTo>
                  <a:pt x="19779" y="4707"/>
                </a:lnTo>
                <a:lnTo>
                  <a:pt x="19779" y="8224"/>
                </a:lnTo>
                <a:lnTo>
                  <a:pt x="22390" y="10800"/>
                </a:lnTo>
                <a:lnTo>
                  <a:pt x="20737" y="10800"/>
                </a:lnTo>
                <a:lnTo>
                  <a:pt x="20737" y="17989"/>
                </a:lnTo>
                <a:lnTo>
                  <a:pt x="10118" y="17989"/>
                </a:lnTo>
                <a:lnTo>
                  <a:pt x="10118" y="10800"/>
                </a:lnTo>
                <a:lnTo>
                  <a:pt x="8465" y="10800"/>
                </a:lnTo>
                <a:close/>
              </a:path>
              <a:path fill="darkenLess" w="30855" h="21600">
                <a:moveTo>
                  <a:pt x="18004" y="6448"/>
                </a:moveTo>
                <a:lnTo>
                  <a:pt x="18004" y="4707"/>
                </a:lnTo>
                <a:lnTo>
                  <a:pt x="19779" y="4707"/>
                </a:lnTo>
                <a:lnTo>
                  <a:pt x="19779" y="8224"/>
                </a:lnTo>
                <a:close/>
              </a:path>
              <a:path fill="darkenLess" w="30855" h="21600">
                <a:moveTo>
                  <a:pt x="14505" y="14299"/>
                </a:moveTo>
                <a:lnTo>
                  <a:pt x="16350" y="14299"/>
                </a:lnTo>
                <a:lnTo>
                  <a:pt x="16350" y="17989"/>
                </a:lnTo>
                <a:lnTo>
                  <a:pt x="20737" y="17989"/>
                </a:lnTo>
                <a:lnTo>
                  <a:pt x="20737" y="10800"/>
                </a:lnTo>
                <a:lnTo>
                  <a:pt x="10118" y="10800"/>
                </a:lnTo>
                <a:lnTo>
                  <a:pt x="10118" y="17989"/>
                </a:lnTo>
                <a:lnTo>
                  <a:pt x="1450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300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21:41:55Z</dcterms:created>
  <dc:creator>BCPS</dc:creator>
  <dc:description/>
  <dc:language>en-US</dc:language>
  <cp:lastModifiedBy>BCPS</cp:lastModifiedBy>
  <dcterms:modified xsi:type="dcterms:W3CDTF">2008-02-06T13:54:44Z</dcterms:modified>
  <cp:revision>37</cp:revision>
  <dc:subject/>
  <dc:title>Rainforest Animals</dc:title>
</cp:coreProperties>
</file>